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B3A-6D45-44A3-AA7A-7A0DD09C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821-4026-4ADD-9375-8134525B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410-EB1D-4847-92B5-573B08D0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8B0-2F6A-484C-8650-314CFD3B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E4F-547B-4087-B50F-F59EDF0A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DD8-3D6A-45AD-810C-A167BAA2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6F8-3B15-4DB7-A848-9070E274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AFF-94EB-4ADE-86DD-477E213F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549-3321-41F3-8021-AD14B4C4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F63-C3E3-40A6-B559-FF65F009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93A-5FD0-48ED-BC6E-A9BB69F5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7FB-160D-4BC7-BB6A-7DD6934E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2273-0990-4B8C-B665-AB25BD851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 What is Spain’s dominate religion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 What does “renaissance”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What two cultures did the Renaissance study and imitate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What did Cervantes write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What were the three major motivations for exploration—briefly explain e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0"/>
            <a:ext cx="518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y did Columbus set sail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n what year did Columbus “discover” America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What is Ferdinand Magellan best remembered for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What did Hernan Cortez do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hat did Francisco Pizzaro 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518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ind a western route to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y did Columbus set sail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n what year did Columbus “discover” America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What is Ferdinand Magellan best remembered for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What did Hernan Cortez do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hat did Francisco Pizzaro 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0"/>
            <a:ext cx="5181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ind a western route to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492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y did Columbus set sail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n what year did Columbus “discover” America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What is Ferdinand Magellan best remembered for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What did Hernan Cortez do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hat did Francisco Pizzaro 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0"/>
            <a:ext cx="5181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ind a western route to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492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rew was first to circumnavigate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y did Columbus set sail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n what year did Columbus “discover” America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What is Ferdinand Magellan best remembered for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What did Hernan Cortez do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hat did Francisco Pizzaro 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0"/>
            <a:ext cx="5181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ind a western route to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492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rew was first to circumnavigate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onquered the Aztec (gold); claimed Mexico for S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y did Columbus set sail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n what year did Columbus “discover” America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What is Ferdinand Magellan best remembered for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What did Hernan Cortez do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hat did Francisco Pizzaro 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0"/>
            <a:ext cx="518148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ind a western route to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492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rew was first to circumnavigate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onquered the Aztec (gold); claimed Mexico for S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Conquered the Inca (potato); claimed much of S. America for Spain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518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ortez and Pizarro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0"/>
            <a:ext cx="518148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ortez and Pizarro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igid class system and dictatorships in Lat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ortez and Pizarro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igid class system and dictatorships in Lat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A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frican slaves brought from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0"/>
            <a:ext cx="51814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ortez and Pizarro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igid class system and dictatorships in Lat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A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frican slaves brought from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olonies imitate parent coun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 What is Spain’s dominate religion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 What does “renaissance”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What two cultures did the Renaissance study and imitate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What did Cervantes write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What were the three major motivations for exploration—briefly explain e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518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oman Catholic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0"/>
            <a:ext cx="518148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ortez and Pizarro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igid class system and dictatorships in Lat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A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frican slaves brought from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olonies imitate parent coun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E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European immigrate to N. and S.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0"/>
            <a:ext cx="51814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ortez and Pizarro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igid class system and dictatorships in Lat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A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frican slaves brought from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olonies imitate parent coun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E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European immigrate to N. and S.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D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Demise of Maya, Aztec, and Inca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0"/>
            <a:ext cx="518148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ortez and Pizarro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igid class system and dictatorships in Lat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A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frican slaves brought from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olonies imitate parent coun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E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European immigrate to N. and S.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D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Demise of Maya, Aztec, and Inca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Horses, cattle, and smallpox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. Name two Spanish conquistad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. What were the effects of European expl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3. In the Columbian exchange, what went from Europe to Amer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4. In the Columbian exchange, which three products were shipped from America to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97180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0"/>
            <a:ext cx="518148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ortez and Pizarro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igid class system and dictatorships in Lat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A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frican slaves brought from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olonies imitate parent coun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E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European immigrate to N. and S.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D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Demise of Maya, Aztec, and Inca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Horses, cattle, and smallpox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Potato, corn, and tobacco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0"/>
            <a:ext cx="5181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ash crops grown in Ame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ash crops grown in Ame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Race based slavery (Africa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0"/>
            <a:ext cx="51814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ash crops grown in Ame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Race based slavery (Africa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O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Oh, cash crops: cotton, sugar, tobacco, 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0"/>
            <a:ext cx="51814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ash crops grown in Ame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Race based slavery (Africa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O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Oh, cash crops: cotton, sugar, tobacco, 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P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lantation system grows cash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0"/>
            <a:ext cx="518148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ash crops grown in Ame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Race based slavery (Africa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O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Oh, cash crops: cotton, sugar, tobacco, 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P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lantation system grows cash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S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laves brought over on Middle Passage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 What is Spain’s dominate religion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 What does “renaissance”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What two cultures did the Renaissance study and imitate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What did Cervantes write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What were the three major motivations for exploration—briefly explain e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0"/>
            <a:ext cx="5181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oman Catholic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bi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0"/>
            <a:ext cx="518148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ash crops grown in Ame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Race based slavery (Africa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O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Oh, cash crops: cotton, sugar, tobacco, 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P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lantation system grows cash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S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laves brought over on Middle Passage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atholic missionaries—converted natives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0"/>
            <a:ext cx="5181480" cy="63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ash crops grown in Ame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Race based slavery (Africa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O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Oh, cash crops: cotton, sugar, tobacco, 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P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lantation system grows cash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S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laves brought over on Middle Passage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atholic missionaries—converted natives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Dictator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igid class system—Spanish on top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The effects of the Columbian exchan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Who were the Jesuit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escribe the government and society structure of Spanish coloni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What is mercantilism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0"/>
            <a:ext cx="5181480" cy="67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. Cash crops grown in Ame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. Race based slavery (Africa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O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Oh, cash crops: cotton, sugar, tobacco, 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P.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lantation system grows cash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S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laves brought over on Middle Passage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Catholic missionaries—converted natives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Dictator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Rigid class system—Spanish on top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Economic Theory: says wealth=power, so collect bull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3962520" cy="692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What country had the most bullion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What effect did the bullion have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. Why did Spain decline as a p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0"/>
            <a:ext cx="518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3962520" cy="692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What country had the most bullion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What effect did the bullion have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. Why did Spain decline as a p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0"/>
            <a:ext cx="5181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pain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3962520" cy="692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What country had the most bullion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What effect did the bullion have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. Why did Spain decline as a p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0"/>
            <a:ext cx="5181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pain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evere inflation—ruined economy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3962520" cy="692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What country had the most bullion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What effect did the bullion have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. Why did Spain decline as a p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5181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pain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evere inflation—ruined economy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id not industrialize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 What is Spain’s dominate religion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 What does “renaissance”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What two cultures did the Renaissance study and imitate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What did Cervantes write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What were the three major motivations for exploration—briefly explain e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0"/>
            <a:ext cx="5181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oman Catholic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bi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Greek and Roman cultures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 What is Spain’s dominate religion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 What does “renaissance”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What two cultures did the Renaissance study and imitate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What did Cervantes write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What were the three major motivations for exploration—briefly explain e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0"/>
            <a:ext cx="5181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oman Catholic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bi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Greek and Roman cultures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on Quixote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      --the first novel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 What is Spain’s dominate religion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 What does “renaissance”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What two cultures did the Renaissance study and imitate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What did Cervantes write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What were the three major motivations for exploration—briefly explain e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5181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oman Catholic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bi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Greek and Roman cultures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on Quixote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      --the first novel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. GOLD (get rich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 What is Spain’s dominate religion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 What does “renaissance”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What two cultures did the Renaissance study and imitate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What did Cervantes write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What were the three major motivations for exploration—briefly explain e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0"/>
            <a:ext cx="5181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oman Catholic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bi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Greek and Roman cultures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on Quixote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      --the first novel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. GOLD (get rich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2. GLORY (get fam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3962520" cy="6825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 What is Spain’s dominate religion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 What does “renaissance” mea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What two cultures did the Renaissance study and imitate?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What did Cervantes write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What were the three major motivations for exploration—briefly explain e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0"/>
            <a:ext cx="51814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oman Catholic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bi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Greek and Roman cultures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on Quixote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      --the first novel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. GOLD (get rich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2. GLORY (get fam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3. GOD (proselytize Christianity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3962520" cy="691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y did Columbus set sail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n what year did Columbus “discover” America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What is Ferdinand Magellan best remembered for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What did Hernan Cortez do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hat did Francisco Pizzaro 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21:58:05Z</dcterms:created>
  <dc:creator>m ingerson</dc:creator>
  <dc:description/>
  <dc:language>en-US</dc:language>
  <cp:lastModifiedBy>Salem City  Schools</cp:lastModifiedBy>
  <dcterms:modified xsi:type="dcterms:W3CDTF">2003-05-20T14:07:09Z</dcterms:modified>
  <cp:revision>9</cp:revision>
  <dc:subject/>
  <dc:title>No Slide Title</dc:title>
</cp:coreProperties>
</file>